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68A-A67A-4165-96C0-E59D71A38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B25-42D4-47BC-BA7A-6F2F7DF55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27C5-5575-48D0-8098-7850C93D6A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6E5A-41D7-4EE3-916E-54973B6D5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A783-4222-48DD-9BC3-0F5FD0D4E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B406-A538-4CCC-A4C5-4224100F30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32DB-C10E-47FB-9794-F98AE070A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FAC6-0E28-497C-A77E-B1280D127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0D0-F97B-4095-8FDC-323864B97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A4F3-0A23-4CC0-A923-6ADFEBFDA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D5A-8AB7-416F-B5E4-8794A10EB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05FB-FFB3-433D-8A97-1116A2535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97E-686A-4691-BE4A-78041D777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89A5-377F-44FE-8BFC-2D8A57AA5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3708-7D30-452E-83AC-52EDA5F9C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07E-59C6-49DA-953E-FF05C259D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B163-1F2F-4BDC-9FE1-472FDAAF9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DBC4-5F40-4259-A757-12F15BAD2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8617-6DEC-4DF7-964C-1C0941123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9BAA-CD9A-4A0F-B044-5635F90247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AE22-71BB-4CA6-A64B-49E52DCDA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8F51-82AC-4654-BD36-D103E57D6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CFF9-56AF-47F4-ABE3-E1C8511B1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890-038B-45D2-9D34-06B6E213A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3B90-F83C-47A9-849C-86558FB71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8D32-BBF2-4E07-86BE-50EE97F4A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912C-939E-4B6A-B580-ED96E6200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DA8D-6B24-46B0-AA81-92838EE9E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C6A3-F735-4CBC-ABBD-0FDAAE6FF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7D74-5823-4974-9A7E-57F5BCFC2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52FC-0838-487A-9714-543CEF194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EC11-4242-4B6F-8D1C-38C0A9401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F78A-B163-4A5F-9438-88A6E1448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BE37-4EF4-4A27-AAC0-B14A17FAE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41E2-FF02-47E2-AF3C-3496126ED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4A37-0D54-4823-A408-77677C14B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64B-CB8B-467C-A4A2-8916655A90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Intro to datasets, variables, BCS and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pclipart.com/cartoon/more_cartoons/Mad_scientist_caricature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alysing Social Data session 1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duction to data, variables, BCS and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ype of data/values that the variable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erical – can be averaged, run statistical test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– words that need to be coded into numbers in order to analy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male/female as answers, open question about whether enjoyed last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different categories, but you can’t rank or order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eligion, country of birth, marit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s not higher than the other, simply differ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means just different “nam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categories that you can rank o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Degree classification, strength of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val Sc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ases have natural val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categories, always think of these variables in terms of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emperature, time, number of….crimes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alysis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inal is more precise than nominal, and interval/ratio is more precise than 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we change a variable from one type to another, to suit a particular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hange age range into groups of ages (1-10,11-20,21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changing what type of variable into what othe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468720" y="1601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being affected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variables whose values we consi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pe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on other variab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other variables have o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doing the affecting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anatory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they have on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2349360"/>
          <a:ext cx="8675640" cy="371016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355760"/>
                <a:gridCol w="1656000"/>
                <a:gridCol w="2193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w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rk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p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50920" y="2349360"/>
          <a:ext cx="8642160" cy="4146840"/>
        </p:xfrm>
        <a:graphic>
          <a:graphicData uri="http://schemas.openxmlformats.org/drawingml/2006/table">
            <a:tbl>
              <a:tblPr/>
              <a:tblGrid>
                <a:gridCol w="2376360"/>
                <a:gridCol w="1513080"/>
                <a:gridCol w="1511280"/>
                <a:gridCol w="1512720"/>
                <a:gridCol w="172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 or str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re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f 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mea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or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s and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1 variable alone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ercentages,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2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exploring the relationship between the an independent variable and a dependent variable using crosstabs and chi-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3 or more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omparing the relative effect of several independent variables on a 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running survey (started in 1982) – now an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ily a victimisation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onsored by the Hom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7/08 version conducted by BMRB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ed face-to-face using a laptop (CAPI) in private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 originally stood for Statistical Package for the Soci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since been adopted as the industry standard for quantitative analysis in across all the sciences (including Market Rese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essentially a software package that allows you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dataset file and entering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organise or manipulate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your data by running statistic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your data in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SPSS data fi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open up an SPSS file you will see a spreadsheet with two tabs (data view and variable view). Click on the tab to choose you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iew is the normal screen, and this is like a Variable x Case matrix (with BC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4067280" y="2349360"/>
            <a:ext cx="3384360" cy="1486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33200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1763640" y="4983120"/>
          <a:ext cx="2448000" cy="147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983120"/>
                    <a:ext cx="244800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0"/>
          <p:cNvSpPr/>
          <p:nvPr/>
        </p:nvSpPr>
        <p:spPr>
          <a:xfrm>
            <a:off x="1763640" y="4724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076720" y="4724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SPSS data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627280" y="306864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3780000" y="2708280"/>
            <a:ext cx="360036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4"/>
          <a:stretch/>
        </p:blipFill>
        <p:spPr>
          <a:xfrm>
            <a:off x="5219640" y="5013360"/>
            <a:ext cx="2790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aim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the end of the lecture, you will unde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statistics 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in a statistics package look lik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variables are (dependent AND independ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levels of measurement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ypes of analysis there are in statist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you will recogn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itish Crime Survey (B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762600" cy="5484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ata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Line 4"/>
          <p:cNvSpPr/>
          <p:nvPr/>
        </p:nvSpPr>
        <p:spPr>
          <a:xfrm flipH="1" flipV="1">
            <a:off x="1042560" y="4724280"/>
            <a:ext cx="289080" cy="9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324000" y="263700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5661000"/>
            <a:ext cx="244944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row is a differen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755640" y="1989000"/>
            <a:ext cx="838836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 flipV="1">
            <a:off x="7092720" y="2565000"/>
            <a:ext cx="501480" cy="1438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300720" y="3933720"/>
            <a:ext cx="262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olumn is a differen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H="1" flipV="1">
            <a:off x="3851280" y="4508280"/>
            <a:ext cx="649440" cy="64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059280" y="256536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24360" y="5157720"/>
            <a:ext cx="244944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ell contains the value of the variable for each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0" y="1052640"/>
            <a:ext cx="8629560" cy="5176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9" name="Line 6"/>
          <p:cNvSpPr/>
          <p:nvPr/>
        </p:nvSpPr>
        <p:spPr>
          <a:xfrm flipH="1" flipV="1">
            <a:off x="468360" y="4508280"/>
            <a:ext cx="216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0" y="1989000"/>
            <a:ext cx="790560" cy="251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6"/>
          <p:cNvSpPr/>
          <p:nvPr/>
        </p:nvSpPr>
        <p:spPr>
          <a:xfrm>
            <a:off x="755640" y="1700280"/>
            <a:ext cx="8388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6084720" y="2349360"/>
            <a:ext cx="21600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822920" y="4797360"/>
            <a:ext cx="4321080" cy="580680"/>
          </a:xfrm>
          <a:prstGeom prst="rect">
            <a:avLst/>
          </a:prstGeom>
          <a:solidFill>
            <a:srgbClr val="daede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These are the various definitions that need to be made for each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50920" y="5661000"/>
            <a:ext cx="3024000" cy="824040"/>
          </a:xfrm>
          <a:prstGeom prst="rect">
            <a:avLst/>
          </a:prstGeom>
          <a:solidFill>
            <a:srgbClr val="bbe0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Variable view, these numbers refer to the variables rather than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9528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Type column, is where you see the type of values – e.g. numeric or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1636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Values column is where you see the different possible values (responses) for each vari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33760" cy="395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4605480" y="1125360"/>
            <a:ext cx="40384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64000" y="4797360"/>
            <a:ext cx="331344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easure column is where you see level of measurement the variable produ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5640" y="4869000"/>
            <a:ext cx="3313080" cy="131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issing column is where you tell SPSS if there are any values you want left out of statistics tests (e.g. Don’t Know answ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073320" cy="37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384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of natural sciences to explain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er is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phrase = measurabl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ounts as knowle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ble facts that you c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se and effect relationships betwe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ematical formula able to predict in other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Pj04387530000[1]"/>
          <p:cNvPicPr/>
          <p:nvPr/>
        </p:nvPicPr>
        <p:blipFill>
          <a:blip r:embed="rId1"/>
          <a:stretch/>
        </p:blipFill>
        <p:spPr>
          <a:xfrm>
            <a:off x="6948360" y="2421000"/>
            <a:ext cx="1541520" cy="228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4338450000[1]"/>
          <p:cNvPicPr/>
          <p:nvPr/>
        </p:nvPicPr>
        <p:blipFill>
          <a:blip r:embed="rId2"/>
          <a:stretch/>
        </p:blipFill>
        <p:spPr>
          <a:xfrm>
            <a:off x="6659640" y="469908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lightenment period (reaction to superstition and chu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rch for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 of mathematical formula to expla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ll dominates our thinking today – policymakers wa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uctiv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as 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gt; Hypothesis &gt; Collect measurable data on variables &gt; Analyse data &gt; Confirm or reject hypothesis &gt;Revis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using quantitative data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d scientist caric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3573360"/>
            <a:ext cx="1368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rules to generalise to all [also one definition of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 predict [can be, but doesn’t have to be,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min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nd protective factors – predicting who will offend, or who is most at risk of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educational attainment affects attitudes to ‘oth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ypes of Data – Quantitative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s of things (spread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 numbers voting for Labour, income, 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collect it (methods of data collecti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 that you can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analyse it (methods of data analysi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 it into statistical tests, so you can see how asso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Pj04385450000[1]"/>
          <p:cNvPicPr/>
          <p:nvPr/>
        </p:nvPicPr>
        <p:blipFill>
          <a:blip r:embed="rId1"/>
          <a:stretch/>
        </p:blipFill>
        <p:spPr>
          <a:xfrm>
            <a:off x="7020000" y="981000"/>
            <a:ext cx="1728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elling a story from quantitative data -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1125360"/>
          <a:ext cx="5327640" cy="4954680"/>
        </p:xfrm>
        <a:graphic>
          <a:graphicData uri="http://schemas.openxmlformats.org/drawingml/2006/table">
            <a:tbl>
              <a:tblPr/>
              <a:tblGrid>
                <a:gridCol w="4174920"/>
                <a:gridCol w="115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s for contacting most recent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of total attend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 child mixes with others of same 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use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meet other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from child c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ind out about local family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ed to know about what they 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ed by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behavi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becoming 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talk about family 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76"/>
          <p:cNvSpPr/>
          <p:nvPr/>
        </p:nvSpPr>
        <p:spPr>
          <a:xfrm>
            <a:off x="0" y="647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9"/>
          <p:cNvSpPr/>
          <p:nvPr/>
        </p:nvSpPr>
        <p:spPr>
          <a:xfrm>
            <a:off x="6516720" y="1268280"/>
            <a:ext cx="2627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Ghate &amp; Hazel (2002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renting in Poor Environ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ndon: J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of 175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ing about their stresses and use of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hat do raw quantitative data look like?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by case matri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-684360" y="1773000"/>
            <a:ext cx="9360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964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339920"/>
                <a:gridCol w="1511280"/>
                <a:gridCol w="19447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efinition of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characteristic, attribute, or proper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easura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more than one possi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A ‘variable’ with only one value is called a consta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sex, age, occupation, voting preference, favourite book, what had for breakfast, what time arrived in thi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find variables described/distinguished in three main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4:35Z</dcterms:modified>
  <cp:revision>127</cp:revision>
  <dc:subject/>
  <dc:title>Slide 1</dc:title>
</cp:coreProperties>
</file>